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288588" cy="8172450"/>
  <p:notesSz cx="9737725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973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21812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5516280" y="-360"/>
            <a:ext cx="421956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3249720" y="512280"/>
            <a:ext cx="3238560" cy="257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72720" y="3255840"/>
            <a:ext cx="7791480" cy="30895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6513120"/>
            <a:ext cx="421812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5516280" y="6513120"/>
            <a:ext cx="4219560" cy="343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E9029449-998B-4823-B9C0-C5A4476BB95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251160" y="514440"/>
            <a:ext cx="3237120" cy="25718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72720" y="3257640"/>
            <a:ext cx="7791480" cy="30859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will address how and why dams are built, operated and regulated; the risks they present to public safety, including a look at several dam failures; a number of issues that impact the safety of our nation’s dams; and the progress realized as a result of good dam safety polic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438768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2592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500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775560" y="191196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500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775560" y="4387680"/>
            <a:ext cx="29811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325800"/>
            <a:ext cx="9259560" cy="63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259240" y="438768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9240" y="1911960"/>
            <a:ext cx="45183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4387680"/>
            <a:ext cx="9259560" cy="226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325800"/>
            <a:ext cx="9259560" cy="13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1911960"/>
            <a:ext cx="9259560" cy="473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2040" indent="-3920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9240" indent="-3268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06440" indent="-2617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8800" indent="-262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2351160" indent="-2602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738360"/>
            <a:ext cx="10287000" cy="76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CONSELHO NACIONAL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RECURSOS HÍDR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GRUPO DE TRABALHO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Arial"/>
              </a:rPr>
              <a:t>SEGURANÇA DE BARRAGE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ROGÉRIO  MENESC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00"/>
                </a:solidFill>
                <a:latin typeface="Arial"/>
              </a:rPr>
              <a:t>31 de janeiro de 20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1981080" y="838080"/>
            <a:ext cx="6688080" cy="7334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701280"/>
            <a:ext cx="1028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Substitutivo 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PROJETO DE LEI N</a:t>
            </a:r>
            <a:r>
              <a:rPr b="1" lang="pt-BR" sz="2300" spc="-1" strike="noStrike" u="sng">
                <a:solidFill>
                  <a:srgbClr val="ffff00"/>
                </a:solidFill>
                <a:uFillTx/>
                <a:latin typeface="Times New Roman"/>
              </a:rPr>
              <a:t>o</a:t>
            </a:r>
            <a:r>
              <a:rPr b="1" lang="pt-BR" sz="2300" spc="-1" strike="noStrike">
                <a:solidFill>
                  <a:srgbClr val="ffff00"/>
                </a:solidFill>
                <a:latin typeface="Times New Roman"/>
              </a:rPr>
              <a:t> 1.181, DE 2003</a:t>
            </a:r>
            <a:br>
              <a:rPr sz="2300"/>
            </a:b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Estabelece a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política nacional de  segurança de barragen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destinadas à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acumulaçã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de água, ao aproveitamento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potenciai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hidráulicos, à disposição final ou temporária de estéril e de rejeitos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mineraçã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e à acumulação de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resíduos industriais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líquidos.</a:t>
            </a:r>
            <a:br>
              <a:rPr sz="2300"/>
            </a:b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Autor: 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Deputado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LEONARDO MONTEIR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</a:t>
            </a:r>
            <a:br>
              <a:rPr sz="2300"/>
            </a:br>
            <a:r>
              <a:rPr b="1" lang="pt-BR" sz="2300" spc="-1" strike="noStrike">
                <a:solidFill>
                  <a:srgbClr val="00ffff"/>
                </a:solidFill>
                <a:latin typeface="Times New Roman"/>
              </a:rPr>
              <a:t>Relator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: Deputado </a:t>
            </a:r>
            <a:r>
              <a:rPr b="0" lang="pt-BR" sz="2300" spc="-1" strike="noStrike">
                <a:solidFill>
                  <a:srgbClr val="ffff00"/>
                </a:solidFill>
                <a:latin typeface="Times New Roman"/>
              </a:rPr>
              <a:t>FERNANDO FERRO</a:t>
            </a:r>
            <a:r>
              <a:rPr b="0" lang="pt-BR" sz="23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1320" y="2790360"/>
            <a:ext cx="8893080" cy="53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2040" indent="0">
              <a:spcBef>
                <a:spcPts val="6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Objetiv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brangênci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efiniçõe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Fundamento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Sistema de Classificação por Categoria de Risc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Plano de Segurança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SNISB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- Educação e Comunicação</a:t>
            </a:r>
            <a:br>
              <a:rPr sz="2400"/>
            </a:br>
            <a:r>
              <a:rPr b="1" lang="pt-BR" sz="2400" spc="-1" strike="noStrike">
                <a:solidFill>
                  <a:srgbClr val="ffff00"/>
                </a:solidFill>
                <a:latin typeface="Times New Roman"/>
              </a:rPr>
              <a:t>CNSB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ribuições do Proprietári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Atribuições do Órgão Fiscalizador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Responsável Técnico</a:t>
            </a:r>
            <a:br>
              <a:rPr sz="2400"/>
            </a:b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Disposições finais e transitó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72040" y="3365640"/>
            <a:ext cx="43149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- SANÇÕES E PENAL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00"/>
                </a:solidFill>
                <a:latin typeface="Times New Roman"/>
              </a:rPr>
              <a:t>- FONTES DE RECURSOS FINANCEI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10287000" cy="77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ontos a Destac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00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Desapensação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do PL 1181/2003 e votação em regime de urgência (análise conjunta com PL 4038/0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Próximas etap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Fato: rupturas cada vez mais graves e numerosas a cada ano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(envelhecimento sem manuteção – Caso Caldas Nov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Ações do 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MI/ANA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(Cadastro e priorização pela Categoria de Ris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ffff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Times New Roman"/>
              </a:rPr>
              <a:t>Livro e Manual de Segurança de Barragens do MI (www.mi.gov.b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Banco de dados georeferenciados (</a:t>
            </a:r>
            <a:r>
              <a:rPr b="1" lang="en-US" sz="2000" spc="-1" strike="noStrike">
                <a:solidFill>
                  <a:srgbClr val="ffff00"/>
                </a:solidFill>
                <a:latin typeface="Times New Roman"/>
              </a:rPr>
              <a:t>ANA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Edital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CT-Hidro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para pesquisa sobre Segurança de Barragens (R$ 1 milhão e bolsas de pesqui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Grupo de trabalho Interministerial (MMA, MME, MT e M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pt-BR" sz="2000" spc="-1" strike="noStrike">
                <a:solidFill>
                  <a:srgbClr val="00cc99"/>
                </a:solidFill>
                <a:latin typeface="Times New Roman"/>
              </a:rPr>
              <a:t>Recursos do OGU 2005 para Recuperação (~ 100 milhõe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00cc99"/>
              </a:buClr>
              <a:buSzPct val="75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O que pressiona os Estados/Municípios/Ministérios a responder aos ofícios do MI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ssíveis Fontes de Recursos Financeiros (emerenciais/continuados) (priorização do OGU para recuperação 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marração da liberação de recursos à entrega do Cadastro/Inspe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buClr>
                <a:srgbClr val="ffffff"/>
              </a:buClr>
              <a:buSzPct val="75000"/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xigências Legais (PL 1181/0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ROTEIR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925640"/>
            <a:ext cx="1028700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Objetiv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articipant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Histór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rincipais dificuldades encontrad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Resultad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Novas atividades 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465280"/>
            <a:ext cx="102870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álise do PL 1181/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alisar a situação de segurança de barragens, suas pertinências e responsabilidade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PARTICIPA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NA, MI, DNOCS, DUKE, DNPM, SRH-BA, ANEEL, CONFEA, CBDB, CHESF, DNIT, Min. Defesa, MME, SRH/MMA, UNESP, Un. Feira de Santana-BA, Vale do rio Doce,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Ver lista completa com Raquel Scali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HISTÓR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2465280"/>
            <a:ext cx="10287000" cy="28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resentações (Rogério Menescal, PL 1181/2003, DNPM, ANEEL, PL 4038/2004, SEDEC/MI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6 Reuniões (Abertura - 3/ago/04; “Fechamento” – 31/01/05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DIFICULDADES ENCONTR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Mudança dos membro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a apresentação do IBAM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e apoio juríd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Falta de normas mínimas para condução de trabalhos do G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42640"/>
            <a:ext cx="10287000" cy="762120"/>
          </a:xfrm>
          <a:prstGeom prst="rect">
            <a:avLst/>
          </a:prstGeom>
          <a:noFill/>
          <a:ln w="0">
            <a:noFill/>
          </a:ln>
        </p:spPr>
        <p:txBody>
          <a:bodyPr lIns="105480" rIns="105480" tIns="52560" bIns="52560" anchor="t">
            <a:noAutofit/>
          </a:bodyPr>
          <a:p>
            <a:pPr indent="0" algn="ctr"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en-US" sz="4400" spc="-1" strike="noStrike">
                <a:solidFill>
                  <a:srgbClr val="00ff99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465280"/>
            <a:ext cx="10287000" cy="35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5480" rIns="105480" tIns="52560" bIns="52560" anchor="t">
            <a:spAutoFit/>
          </a:bodyPr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Apoio à Moção de Desapensação ao PL 1616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Proposta de alteração do texto do PL 1181/20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99"/>
                </a:solidFill>
                <a:latin typeface="Arial"/>
              </a:rPr>
              <a:t>CTAP =&gt; CTIL =&gt; CNRH =&gt; Dep. Relator do PL 1181/03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50000"/>
              </a:lnSpc>
              <a:buClr>
                <a:srgbClr val="ffff99"/>
              </a:buClr>
              <a:buFont typeface="Arial"/>
              <a:buChar char="•"/>
              <a:tabLst>
                <a:tab algn="l" pos="1054080"/>
                <a:tab algn="l" pos="2108160"/>
                <a:tab algn="l" pos="3162240"/>
                <a:tab algn="l" pos="4216320"/>
                <a:tab algn="l" pos="5270400"/>
                <a:tab algn="l" pos="6324480"/>
                <a:tab algn="l" pos="7378560"/>
                <a:tab algn="l" pos="8432640"/>
                <a:tab algn="l" pos="9487080"/>
                <a:tab algn="l" pos="1054116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71320" y="846000"/>
            <a:ext cx="8893080" cy="594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88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3600" spc="-1" strike="noStrike">
                <a:solidFill>
                  <a:srgbClr val="00ffff"/>
                </a:solidFill>
                <a:latin typeface="Times New Roman"/>
              </a:rPr>
              <a:t>Diretrizes para uma proposta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3600" spc="-1" strike="noStrike">
                <a:solidFill>
                  <a:srgbClr val="00ffff"/>
                </a:solidFill>
                <a:latin typeface="Times New Roman"/>
              </a:rPr>
              <a:t>legislação nacional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Ser sucinta sem deixar de cobrir os aspectos essenci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Ter dispositivos para permitir uma ação preven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Pocura da descentralização (Pacto federativo, autoregulação e autofiscalizaçã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Utilizar o arcabouço legal/institucional existente no Bras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-388080" algn="just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Não procurar resolver todos os problemas de uma só vez (</a:t>
            </a:r>
            <a:r>
              <a:rPr b="1" lang="pt-BR" sz="2800" spc="-1" strike="noStrike">
                <a:solidFill>
                  <a:srgbClr val="ffff00"/>
                </a:solidFill>
                <a:latin typeface="Times New Roman"/>
              </a:rPr>
              <a:t>Plantar uma semente</a:t>
            </a:r>
            <a:r>
              <a:rPr b="1" lang="pt-BR" sz="2800" spc="-1" strike="noStrike">
                <a:solidFill>
                  <a:srgbClr val="ffffff"/>
                </a:solidFill>
                <a:latin typeface="Times New Roman"/>
              </a:rPr>
              <a:t> e fincar uma vareta para a árvore nascer ereta. Os frutos só virão no médio e longo praz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8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1044720"/>
                <a:tab algn="l" pos="2089080"/>
                <a:tab algn="l" pos="3133800"/>
                <a:tab algn="l" pos="4178160"/>
                <a:tab algn="l" pos="5222880"/>
                <a:tab algn="l" pos="6267600"/>
                <a:tab algn="l" pos="7311960"/>
                <a:tab algn="l" pos="8356680"/>
                <a:tab algn="l" pos="9401040"/>
                <a:tab algn="l" pos="104457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0" y="3124080"/>
            <a:ext cx="3048120" cy="2667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08520"/>
            <a:ext cx="2743200" cy="1272960"/>
          </a:xfrm>
          <a:prstGeom prst="downArrowCallout">
            <a:avLst>
              <a:gd name="adj1" fmla="val 53959"/>
              <a:gd name="adj2" fmla="val 53874"/>
              <a:gd name="adj3" fmla="val 13671"/>
              <a:gd name="adj4" fmla="val 7903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3886200"/>
            <a:ext cx="2170080" cy="1117440"/>
          </a:xfrm>
          <a:prstGeom prst="upArrowCallout">
            <a:avLst>
              <a:gd name="adj1" fmla="val 48555"/>
              <a:gd name="adj2" fmla="val 48550"/>
              <a:gd name="adj3" fmla="val 16667"/>
              <a:gd name="adj4" fmla="val 66660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762120"/>
            <a:ext cx="10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ff99"/>
                </a:solidFill>
                <a:latin typeface="Times New Roman"/>
              </a:rPr>
              <a:t>NATIONAL FRAMEWORK RELATED WITH DAM SAFE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447920"/>
            <a:ext cx="5257800" cy="2361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A </a:t>
            </a:r>
            <a:r>
              <a:rPr b="1" lang="pt-BR" sz="1400" spc="-1" strike="noStrike">
                <a:solidFill>
                  <a:srgbClr val="ff3300"/>
                </a:solidFill>
                <a:latin typeface="Times New Roman"/>
              </a:rPr>
              <a:t>(RIOS FEDERAIS E BANCO DE D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IB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ANEEL (HIDRELÉTRIC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DNPM (BARRAGENS DE REJEI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DEC/SEDE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NRH/SR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REA/CONFEA (Habilitação Profission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mitês de Ba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Agências Reguladoras Estaduais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(HE, Min., 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RH</a:t>
            </a: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 &amp; MA)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 (Rios e obras Estaduais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010280" y="3733920"/>
            <a:ext cx="2819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Instituições de Pesquisa e Suporte (CBDB, Unive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sidades</a:t>
            </a:r>
            <a:r>
              <a:rPr b="1" lang="pt-BR" sz="1600" spc="-1" strike="noStrike">
                <a:solidFill>
                  <a:srgbClr val="000000"/>
                </a:solidFill>
                <a:latin typeface="Times New Roman"/>
              </a:rPr>
              <a:t>, CREA/CONFEA,  Consultores e Peritos, BUREC, LNEC,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886200"/>
            <a:ext cx="2743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REGULAMENTAÇ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TREINAMEN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imes New Roman"/>
              </a:rPr>
              <a:t>CONTR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PEÇÕ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ALID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81280" y="4343400"/>
            <a:ext cx="228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RELATÓRIO DE SEGUR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Times New Roman"/>
              </a:rPr>
              <a:t>INFORMAÇÕ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5800" y="5203800"/>
            <a:ext cx="5105520" cy="28908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685800" y="5203800"/>
          <a:ext cx="5105520" cy="2968560"/>
        </p:xfrm>
        <a:graphic>
          <a:graphicData uri="http://schemas.openxmlformats.org/drawingml/2006/table">
            <a:tbl>
              <a:tblPr/>
              <a:tblGrid>
                <a:gridCol w="1523880"/>
                <a:gridCol w="1219320"/>
                <a:gridCol w="1246320"/>
                <a:gridCol w="1116000"/>
              </a:tblGrid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ÚBLIC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VADOS E COMUN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D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DU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NICIP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01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1" lang="pt-BR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MI</a:t>
                      </a: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O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DEVA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S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R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TRONOR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C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RH’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BE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P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MI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GE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EP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tc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feit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VR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TAIP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B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taguas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io Ver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1044720"/>
                          <a:tab algn="l" pos="2089080"/>
                          <a:tab algn="l" pos="3133800"/>
                          <a:tab algn="l" pos="4178160"/>
                          <a:tab algn="l" pos="5222880"/>
                          <a:tab algn="l" pos="6267600"/>
                          <a:tab algn="l" pos="7311960"/>
                          <a:tab algn="l" pos="8356680"/>
                          <a:tab algn="l" pos="9401040"/>
                          <a:tab algn="l" pos="104457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 rot="10800000">
            <a:off x="-4680" y="1817640"/>
            <a:ext cx="66708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REGULATORY ORGANIZ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0800000">
            <a:off x="-2880" y="5564160"/>
            <a:ext cx="667080" cy="1944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ff"/>
                </a:solidFill>
                <a:latin typeface="Times New Roman"/>
              </a:rPr>
              <a:t>OWNERS &amp; OPERA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19920" y="3124080"/>
            <a:ext cx="761760" cy="685800"/>
          </a:xfrm>
          <a:prstGeom prst="leftRightArrow">
            <a:avLst>
              <a:gd name="adj1" fmla="val 50000"/>
              <a:gd name="adj2" fmla="val 221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5105520"/>
            <a:ext cx="761760" cy="685800"/>
          </a:xfrm>
          <a:prstGeom prst="leftRightArrow">
            <a:avLst>
              <a:gd name="adj1" fmla="val 50000"/>
              <a:gd name="adj2" fmla="val 221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13:07:54Z</dcterms:created>
  <dc:creator>wb204912</dc:creator>
  <dc:description/>
  <dc:language>en-US</dc:language>
  <cp:lastModifiedBy>rogerio.menescal</cp:lastModifiedBy>
  <dcterms:modified xsi:type="dcterms:W3CDTF">2005-01-31T18:18:33Z</dcterms:modified>
  <cp:revision>1123</cp:revision>
  <dc:subject/>
  <dc:title>PowerPoint Presentation</dc:title>
</cp:coreProperties>
</file>